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F9B-AA44-47CC-BFCA-75910684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176-8DE2-4EA2-AAC6-E1C9C6D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CBE-8064-468B-831A-BC88E36C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463-A197-4F8C-8673-99F53F11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C4F-6535-4151-A358-05BEBD7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F2B-6DAB-40D7-9193-E490C26A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85E-1C83-4C6B-999B-5860A4CE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549-056A-4BEE-B88F-F58EC486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93C-0F61-46E4-9C67-223B11BE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F3C-07AF-4274-9EF3-30D2BA7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4DA-3E66-4DBE-917C-0D9BCD8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F3E-B55B-4AD8-8FC0-434A4B91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002B-34E7-44FC-B7D6-792AED578C4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chedule for negotiation set to 23rd of M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HW-pool will be established to transfer equipment in a sufficient way and reduce cost of wasting and new invest; Team assistance are working on this with the basis of the asset li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ist of named engineers that is part of the contract was reworked aligned with Motorola in accordance to the need of BenQ 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s are accounted as inventory of BenQ Denmark APS, transfer of equipment is proposed on basis of the book value and has to be handled as inv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W-contracts intended to be transferred are CST Microwave Studio, PTC Intercomm Browser, Orcad Unison EE/PCB, Synopsys, R&amp;S maintenance contracts. Decision of Motorola depends on cost situa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verbal done. Contract is under preparation. Moving could be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nearly finished; moving is planed for 25th to 28th of M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is ongoing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on several projects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moval of BenQ asset out of the building transferred to Motorola started. Lars Bonde is responsible as project manger for this issu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21T10:21:53Z</dcterms:modified>
  <cp:revision>54</cp:revision>
  <dc:subject/>
  <dc:title>PowerPoint 簡報</dc:title>
</cp:coreProperties>
</file>